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71FE6-59C8-4091-ADB0-6172367A32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20360" y="37404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39F64-9651-4FC8-9C5B-01485D511F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3992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D70D3-F4FA-49D9-B843-80C79B8156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0424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8848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2036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0424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8848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B08F1-C4B4-4A73-B72B-8B48199956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D3D1A-9533-4ADC-A09B-11A1792B6B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20360" y="1125000"/>
            <a:ext cx="823428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F268BE-757C-47CD-B922-DBD85794ED5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823428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A5C40E-5039-4EAF-A273-9991F8EF4F1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B2150-99E4-4668-A444-E77A229FE6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12EDB5-3A03-4D70-8BE1-ADA532BC97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8AFB24-6FED-459A-A419-B4A758D4F8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66C52-7FBA-4DAD-86CD-615BA1715B9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20360" y="1125000"/>
            <a:ext cx="823428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83E5C-A79C-4916-ACFF-2C6251F0F8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3992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C58F3-0F52-401E-AE02-CE84F50FCE6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B35018-DA28-4AAB-BC6B-9D8FEBE4680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20360" y="37404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3EB629-3500-4D29-B93F-7E46633B3A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3992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BCF5D6-3840-43B8-8BD4-68B3F4E93F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0424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8848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2036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0424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8848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E0E5D1-877D-4C7B-B749-04F21E8D1FC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CA5A-D379-4880-91F0-3D59F6BC28B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720360" y="1125000"/>
            <a:ext cx="823428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E775-D07F-4285-A051-E2F119C6284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823428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62A9-0335-4BFF-9628-85B31B6B922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D999D-6C59-4361-9B20-07A20681BD8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98E04-8D04-48AE-9EFF-8DECA268ED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823428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EEF74-D510-499D-B4C0-EF3A7D0A5EF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C0C2A-8945-4D6D-AB2F-EFC00E79E1D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86EA-7088-4631-8FBD-6E40B1D1F3E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3992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6B96-9F56-4DB0-A45C-06D7F6FBDD5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6B7F0-CEFD-455D-99A5-F959BC75A2C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720360" y="37404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C0DC-9981-4D89-9A3A-FC05F7FAED6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93992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9556-B070-48B2-894E-8E4ABDF8967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50424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28848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72036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50424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28848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C140-C239-470A-92ED-0BC28481481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4DD3E5-24AF-4BE7-836B-B6213E8129F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720360" y="1125000"/>
            <a:ext cx="823428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2C7590-A675-4803-9D74-958F1DAACBF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823428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C0A4C7-9DCB-43FE-A54C-FB9169E8DD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CE9D8-A561-4EB5-8B0F-B6927C814DC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E4AE16-14F0-4868-9006-94632F19453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2242F3-DC5C-4BF5-9059-7AFF14D0207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26A7BC-9CC2-470C-B8BF-70E33591079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817C28-5D76-4D93-80AC-5708F558419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93992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6A1517-241B-48CC-A432-28EB5F054EB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F2BE48-05CB-459D-B0C1-C239F019048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720360" y="37404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EC7F06-EA81-41D2-92F6-A97FE9279BA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93992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30FB5D-7E07-407F-BCEA-F3B1353B49D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50424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288480" y="11250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72036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50424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288480" y="3740400"/>
            <a:ext cx="265104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80F8B9-570C-4FCD-B42B-2DC7EBECF2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D143E-672A-4AC3-94B6-8C79D34881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D5DC5-22E7-4E86-80B6-22E572A6A8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C2702-CC96-48A5-A569-9001A7F9D1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39920" y="37404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E7725-EEB7-466F-AAD2-B4F886915A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2036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39920" y="1125000"/>
            <a:ext cx="401832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20360" y="3740400"/>
            <a:ext cx="8234280" cy="23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6259D-E90A-4BD6-9CEF-115673A9E1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wmf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20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Rectangle 19"/>
            <p:cNvSpPr/>
            <p:nvPr/>
          </p:nvSpPr>
          <p:spPr>
            <a:xfrm>
              <a:off x="0" y="0"/>
              <a:ext cx="9144000" cy="809640"/>
            </a:xfrm>
            <a:prstGeom prst="rect">
              <a:avLst/>
            </a:prstGeom>
            <a:gradFill rotWithShape="0">
              <a:gsLst>
                <a:gs pos="0">
                  <a:srgbClr val="00287d"/>
                </a:gs>
                <a:gs pos="100000">
                  <a:srgbClr val="001e5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3" name="Picture 23" descr="zahlavi EN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0760" cy="685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20720" y="1125360"/>
            <a:ext cx="78278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87d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720360" y="2017800"/>
            <a:ext cx="8234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2556000" y="6248520"/>
            <a:ext cx="403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69696"/>
                </a:solidFill>
                <a:latin typeface="Times New Roman"/>
              </a:rPr>
              <a:t>Definujte zápatí - název prezentace / pracovišt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3720-E544-4C73-B1D5-67239B58B272}" type="slidenum">
              <a:rPr b="0" lang="cs-CZ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5" name="Rectangle 11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" name="Rectangle 12"/>
            <p:cNvSpPr/>
            <p:nvPr/>
          </p:nvSpPr>
          <p:spPr>
            <a:xfrm>
              <a:off x="0" y="0"/>
              <a:ext cx="9144000" cy="809640"/>
            </a:xfrm>
            <a:prstGeom prst="rect">
              <a:avLst/>
            </a:prstGeom>
            <a:gradFill rotWithShape="0">
              <a:gsLst>
                <a:gs pos="0">
                  <a:srgbClr val="00287d"/>
                </a:gs>
                <a:gs pos="100000">
                  <a:srgbClr val="001e5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47" name="Picture 13" descr="zahlavi EN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0760" cy="685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720360" y="1125000"/>
            <a:ext cx="823428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3"/>
          </p:nvPr>
        </p:nvSpPr>
        <p:spPr>
          <a:xfrm>
            <a:off x="2556000" y="6248520"/>
            <a:ext cx="403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69696"/>
                </a:solidFill>
                <a:latin typeface="Times New Roman"/>
              </a:rPr>
              <a:t>Definujte zápatí - název prezentace / pracovišt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BEB9D-B384-49F4-9578-1A1C7C91716C}" type="slidenum">
              <a:rPr b="0" lang="cs-CZ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87d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9" name="Rectangle 10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Rectangle 11"/>
            <p:cNvSpPr/>
            <p:nvPr/>
          </p:nvSpPr>
          <p:spPr>
            <a:xfrm>
              <a:off x="0" y="0"/>
              <a:ext cx="9144000" cy="809640"/>
            </a:xfrm>
            <a:prstGeom prst="rect">
              <a:avLst/>
            </a:prstGeom>
            <a:gradFill rotWithShape="0">
              <a:gsLst>
                <a:gs pos="0">
                  <a:srgbClr val="00287d"/>
                </a:gs>
                <a:gs pos="100000">
                  <a:srgbClr val="001e5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91" name="Picture 12" descr="zahlavi EN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0760" cy="685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2521080" y="1125000"/>
            <a:ext cx="6433920" cy="500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5"/>
          </p:nvPr>
        </p:nvSpPr>
        <p:spPr>
          <a:xfrm>
            <a:off x="2556000" y="6248520"/>
            <a:ext cx="403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69696"/>
                </a:solidFill>
                <a:latin typeface="Times New Roman"/>
              </a:rPr>
              <a:t>Definujte zápatí - název prezentace / pracovišt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3D45-E2DE-4D74-9C1D-14117B933B2B}" type="slidenum">
              <a:rPr b="0" lang="cs-CZ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Group 2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2" name="Rectangle 19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0e0e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Rectangle 21"/>
            <p:cNvSpPr/>
            <p:nvPr/>
          </p:nvSpPr>
          <p:spPr>
            <a:xfrm>
              <a:off x="0" y="0"/>
              <a:ext cx="9144000" cy="2344680"/>
            </a:xfrm>
            <a:prstGeom prst="rect">
              <a:avLst/>
            </a:prstGeom>
            <a:gradFill rotWithShape="0">
              <a:gsLst>
                <a:gs pos="0">
                  <a:srgbClr val="00287d"/>
                </a:gs>
                <a:gs pos="100000">
                  <a:srgbClr val="001e5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134" name="Picture 24" descr="titl EN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0760" cy="6854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20720" y="1125360"/>
            <a:ext cx="782784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87d"/>
                </a:solidFill>
                <a:latin typeface="Tahoma"/>
              </a:rPr>
              <a:t>Click to edit the title text format</a:t>
            </a:r>
            <a:endParaRPr b="1" lang="en-US" sz="2400" spc="-1" strike="noStrike">
              <a:solidFill>
                <a:srgbClr val="00287d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720360" y="2017800"/>
            <a:ext cx="8234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7"/>
          </p:nvPr>
        </p:nvSpPr>
        <p:spPr>
          <a:xfrm>
            <a:off x="2556000" y="6248520"/>
            <a:ext cx="403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969696"/>
                </a:solidFill>
                <a:latin typeface="Times New Roman"/>
              </a:rPr>
              <a:t>Definujte zápatí - název prezentace / pracoviště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50686-5F73-49AD-AFC5-91681076992F}" type="slidenum">
              <a:rPr b="0" lang="cs-CZ" sz="12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300040" y="2768400"/>
            <a:ext cx="6964200" cy="26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287d"/>
                </a:solidFill>
                <a:latin typeface="Tahoma"/>
              </a:rPr>
              <a:t>Work-life balance in science:</a:t>
            </a:r>
            <a:br>
              <a:rPr sz="3200"/>
            </a:br>
            <a:br>
              <a:rPr sz="3200"/>
            </a:br>
            <a:r>
              <a:rPr b="0" i="1" lang="cs-CZ" sz="3200" spc="-1" strike="noStrike">
                <a:solidFill>
                  <a:srgbClr val="00287d"/>
                </a:solidFill>
                <a:latin typeface="Tahoma"/>
              </a:rPr>
              <a:t>struggling for papers and time off from the lab</a:t>
            </a:r>
            <a:endParaRPr b="1" lang="en-US" sz="3200" spc="-1" strike="noStrike">
              <a:solidFill>
                <a:srgbClr val="00287d"/>
              </a:solidFill>
              <a:latin typeface="Tahoma"/>
            </a:endParaRPr>
          </a:p>
        </p:txBody>
      </p:sp>
      <p:pic>
        <p:nvPicPr>
          <p:cNvPr id="176" name="Obrázek 3" descr=""/>
          <p:cNvPicPr/>
          <p:nvPr/>
        </p:nvPicPr>
        <p:blipFill>
          <a:blip r:embed="rId1"/>
          <a:stretch/>
        </p:blipFill>
        <p:spPr>
          <a:xfrm>
            <a:off x="2300400" y="5916600"/>
            <a:ext cx="6340320" cy="6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1" descr="Marie Curie.tiff"/>
          <p:cNvPicPr/>
          <p:nvPr/>
        </p:nvPicPr>
        <p:blipFill>
          <a:blip r:embed="rId1"/>
          <a:stretch/>
        </p:blipFill>
        <p:spPr>
          <a:xfrm>
            <a:off x="2155680" y="884160"/>
            <a:ext cx="5070600" cy="59086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4"/>
          <p:cNvSpPr/>
          <p:nvPr/>
        </p:nvSpPr>
        <p:spPr>
          <a:xfrm>
            <a:off x="-74520" y="2246400"/>
            <a:ext cx="425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der equity in the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TextBox 5"/>
          <p:cNvSpPr/>
          <p:nvPr/>
        </p:nvSpPr>
        <p:spPr>
          <a:xfrm>
            <a:off x="6152760" y="3300480"/>
            <a:ext cx="2771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-fertility trap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3859920" y="4702320"/>
            <a:ext cx="536148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ertility far below the “replacement level” in many rich countri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ertility decline is a direct product of greater opportunities for wom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ter marriages and reduction of births for the well-educated wom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TextBox 7"/>
          <p:cNvSpPr/>
          <p:nvPr/>
        </p:nvSpPr>
        <p:spPr>
          <a:xfrm>
            <a:off x="529920" y="5734080"/>
            <a:ext cx="80931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e time to address these challenges is now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Box 1"/>
          <p:cNvSpPr/>
          <p:nvPr/>
        </p:nvSpPr>
        <p:spPr>
          <a:xfrm>
            <a:off x="236520" y="2482920"/>
            <a:ext cx="8546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young family income (? MU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childcare help/recommend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idized day care for children (Sweden, France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le postdoctoral fellow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-family-leave grant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fessional contacts during family leave (Dept Biol MU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le start dates for PhD and gr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ons for remote panel/meeting particip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Box 5"/>
          <p:cNvSpPr/>
          <p:nvPr/>
        </p:nvSpPr>
        <p:spPr>
          <a:xfrm>
            <a:off x="69120" y="1217520"/>
            <a:ext cx="913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Any other creative suggestions?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7" name="Obrázek 3" descr=""/>
          <p:cNvPicPr/>
          <p:nvPr/>
        </p:nvPicPr>
        <p:blipFill>
          <a:blip r:embed="rId1"/>
          <a:stretch/>
        </p:blipFill>
        <p:spPr>
          <a:xfrm>
            <a:off x="447840" y="6105600"/>
            <a:ext cx="694980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3"/>
          <p:cNvSpPr/>
          <p:nvPr/>
        </p:nvSpPr>
        <p:spPr>
          <a:xfrm>
            <a:off x="324000" y="1058760"/>
            <a:ext cx="863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U is No. 3 in CR after Academy of Sciences and Charles University in term of research performa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xcellent infrastruct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About 900 original research papers with IF each year, most of them with major contribution of PhDs and postdoctoral scientis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Rapidly growing number of citations per article – increasing qua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Increasing collaboration with researchers abroad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8" name="Picture 10" descr="fch 9"/>
          <p:cNvPicPr/>
          <p:nvPr/>
        </p:nvPicPr>
        <p:blipFill>
          <a:blip r:embed="rId6"/>
          <a:stretch/>
        </p:blipFill>
        <p:spPr>
          <a:xfrm>
            <a:off x="4676760" y="4014720"/>
            <a:ext cx="3336840" cy="2219400"/>
          </a:xfrm>
          <a:prstGeom prst="rect">
            <a:avLst/>
          </a:prstGeom>
          <a:ln w="9360">
            <a:solidFill>
              <a:srgbClr val="333399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  <p:pic>
        <p:nvPicPr>
          <p:cNvPr id="179" name="Obrázek 3" descr=""/>
          <p:cNvPicPr/>
          <p:nvPr/>
        </p:nvPicPr>
        <p:blipFill>
          <a:blip r:embed="rId7"/>
          <a:stretch/>
        </p:blipFill>
        <p:spPr>
          <a:xfrm>
            <a:off x="990720" y="4008600"/>
            <a:ext cx="3290760" cy="2219040"/>
          </a:xfrm>
          <a:prstGeom prst="rect">
            <a:avLst/>
          </a:prstGeom>
          <a:ln w="9360">
            <a:solidFill>
              <a:srgbClr val="333399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</p:pic>
      <p:sp>
        <p:nvSpPr>
          <p:cNvPr id="180" name="Rectangle 7"/>
          <p:cNvSpPr/>
          <p:nvPr/>
        </p:nvSpPr>
        <p:spPr>
          <a:xfrm>
            <a:off x="68400" y="3355920"/>
            <a:ext cx="90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Good world average in many fields, some teams excell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" descr="Untitled.tiff"/>
          <p:cNvPicPr/>
          <p:nvPr/>
        </p:nvPicPr>
        <p:blipFill>
          <a:blip r:embed="rId1"/>
          <a:stretch/>
        </p:blipFill>
        <p:spPr>
          <a:xfrm>
            <a:off x="1440" y="1158840"/>
            <a:ext cx="5432400" cy="4946760"/>
          </a:xfrm>
          <a:prstGeom prst="rect">
            <a:avLst/>
          </a:prstGeom>
          <a:ln w="0">
            <a:noFill/>
          </a:ln>
        </p:spPr>
      </p:pic>
      <p:sp>
        <p:nvSpPr>
          <p:cNvPr id="182" name="TextBox 2"/>
          <p:cNvSpPr/>
          <p:nvPr/>
        </p:nvSpPr>
        <p:spPr>
          <a:xfrm>
            <a:off x="4640400" y="1628640"/>
            <a:ext cx="33494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What PIs expec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Tale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Motiv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Hard work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Box 5"/>
          <p:cNvSpPr/>
          <p:nvPr/>
        </p:nvSpPr>
        <p:spPr>
          <a:xfrm>
            <a:off x="4641840" y="3303720"/>
            <a:ext cx="437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ng hours working wee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w salar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cessive demands and great pressu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mited perspective to get permanent jo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 leisure activit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fficult personal lif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TextBox 6"/>
          <p:cNvSpPr/>
          <p:nvPr/>
        </p:nvSpPr>
        <p:spPr>
          <a:xfrm>
            <a:off x="3048120" y="5249880"/>
            <a:ext cx="605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n of doing science, great discove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d stellar carrier 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Picture 7" descr="1.tiff"/>
          <p:cNvPicPr/>
          <p:nvPr/>
        </p:nvPicPr>
        <p:blipFill>
          <a:blip r:embed="rId2"/>
          <a:stretch/>
        </p:blipFill>
        <p:spPr>
          <a:xfrm>
            <a:off x="6545160" y="2176560"/>
            <a:ext cx="25686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" descr="Marie Curie.tiff"/>
          <p:cNvPicPr/>
          <p:nvPr/>
        </p:nvPicPr>
        <p:blipFill>
          <a:blip r:embed="rId1"/>
          <a:stretch/>
        </p:blipFill>
        <p:spPr>
          <a:xfrm>
            <a:off x="2155680" y="884160"/>
            <a:ext cx="5070600" cy="5908680"/>
          </a:xfrm>
          <a:prstGeom prst="rect">
            <a:avLst/>
          </a:prstGeom>
          <a:ln w="0">
            <a:noFill/>
          </a:ln>
        </p:spPr>
      </p:pic>
      <p:sp>
        <p:nvSpPr>
          <p:cNvPr id="187" name="TextBox 4"/>
          <p:cNvSpPr/>
          <p:nvPr/>
        </p:nvSpPr>
        <p:spPr>
          <a:xfrm>
            <a:off x="-74520" y="2246400"/>
            <a:ext cx="4251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der equity in the sc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6152760" y="3300480"/>
            <a:ext cx="27716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-fertility trap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Box 6"/>
          <p:cNvSpPr/>
          <p:nvPr/>
        </p:nvSpPr>
        <p:spPr>
          <a:xfrm>
            <a:off x="3859920" y="4702320"/>
            <a:ext cx="536148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ertility far below the “replacement level” in many rich countri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ertility decline is a direct product of greater opportunities for wom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1360" indent="-171360"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ter marriages and reduction of births for the well-educated wome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1" descr="Map 1.tiff"/>
          <p:cNvPicPr/>
          <p:nvPr/>
        </p:nvPicPr>
        <p:blipFill>
          <a:blip r:embed="rId1"/>
          <a:stretch/>
        </p:blipFill>
        <p:spPr>
          <a:xfrm>
            <a:off x="600120" y="1311120"/>
            <a:ext cx="7786800" cy="493884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4"/>
          <p:cNvSpPr/>
          <p:nvPr/>
        </p:nvSpPr>
        <p:spPr>
          <a:xfrm>
            <a:off x="600120" y="4494240"/>
            <a:ext cx="2079720" cy="16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1689120" y="1311120"/>
            <a:ext cx="1471680" cy="13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Box 6"/>
          <p:cNvSpPr/>
          <p:nvPr/>
        </p:nvSpPr>
        <p:spPr>
          <a:xfrm>
            <a:off x="4448160" y="5889600"/>
            <a:ext cx="893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 : M ratio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Box 7"/>
          <p:cNvSpPr/>
          <p:nvPr/>
        </p:nvSpPr>
        <p:spPr>
          <a:xfrm>
            <a:off x="649440" y="1486080"/>
            <a:ext cx="197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ender and research output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1200240" y="2722680"/>
            <a:ext cx="6426000" cy="31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Greatest gender parity is often in former communist st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Low research output ~ female domi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omen dominate science in Macedonia, Sri Lanka, Latvia, Ukraine and Bosnia/Herzegovin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omen are globally less likely to participate in collaboration and be listed as either first or last autho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" descr="Map 2.tiff"/>
          <p:cNvPicPr/>
          <p:nvPr/>
        </p:nvPicPr>
        <p:blipFill>
          <a:blip r:embed="rId1"/>
          <a:stretch/>
        </p:blipFill>
        <p:spPr>
          <a:xfrm>
            <a:off x="0" y="1068480"/>
            <a:ext cx="9144000" cy="5218200"/>
          </a:xfrm>
          <a:prstGeom prst="rect">
            <a:avLst/>
          </a:prstGeom>
          <a:ln w="0">
            <a:noFill/>
          </a:ln>
        </p:spPr>
      </p:pic>
      <p:sp>
        <p:nvSpPr>
          <p:cNvPr id="197" name="TextBox 5"/>
          <p:cNvSpPr/>
          <p:nvPr/>
        </p:nvSpPr>
        <p:spPr>
          <a:xfrm>
            <a:off x="4570920" y="5826240"/>
            <a:ext cx="7722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F : M ratio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2282760" y="1200240"/>
          <a:ext cx="2665440" cy="2422440"/>
        </p:xfrm>
        <a:graphic>
          <a:graphicData uri="http://schemas.openxmlformats.org/drawingml/2006/table">
            <a:tbl>
              <a:tblPr/>
              <a:tblGrid>
                <a:gridCol w="865080"/>
                <a:gridCol w="576360"/>
                <a:gridCol w="557280"/>
                <a:gridCol w="666720"/>
              </a:tblGrid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acul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tal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dic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r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542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ocial Stud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cie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formati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duc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542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orts Stud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conomi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7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  <p:pic>
        <p:nvPicPr>
          <p:cNvPr id="199" name="Graf 6" descr=""/>
          <p:cNvPicPr/>
          <p:nvPr/>
        </p:nvPicPr>
        <p:blipFill>
          <a:blip r:embed="rId1"/>
          <a:stretch/>
        </p:blipFill>
        <p:spPr>
          <a:xfrm>
            <a:off x="5041800" y="1225440"/>
            <a:ext cx="3705480" cy="207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0" name=""/>
          <p:cNvGraphicFramePr/>
          <p:nvPr/>
        </p:nvGraphicFramePr>
        <p:xfrm>
          <a:off x="2290680" y="3994200"/>
          <a:ext cx="2735280" cy="2422440"/>
        </p:xfrm>
        <a:graphic>
          <a:graphicData uri="http://schemas.openxmlformats.org/drawingml/2006/table">
            <a:tbl>
              <a:tblPr/>
              <a:tblGrid>
                <a:gridCol w="863640"/>
                <a:gridCol w="576360"/>
                <a:gridCol w="611280"/>
                <a:gridCol w="684000"/>
              </a:tblGrid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acult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tal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edicin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rt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9080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a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5388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ocial Stud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cie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formati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duc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542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orts Stud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190440">
                <a:tc>
                  <a:txBody>
                    <a:bodyPr lIns="9360" rIns="9360" tIns="9360" bIns="936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conomi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936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</a:t>
                      </a: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3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  <p:pic>
        <p:nvPicPr>
          <p:cNvPr id="201" name="Graf 8" descr=""/>
          <p:cNvPicPr/>
          <p:nvPr/>
        </p:nvPicPr>
        <p:blipFill>
          <a:blip r:embed="rId2"/>
          <a:stretch/>
        </p:blipFill>
        <p:spPr>
          <a:xfrm>
            <a:off x="5145120" y="3968640"/>
            <a:ext cx="3700440" cy="2176560"/>
          </a:xfrm>
          <a:prstGeom prst="rect">
            <a:avLst/>
          </a:prstGeom>
          <a:ln w="0">
            <a:noFill/>
          </a:ln>
        </p:spPr>
      </p:pic>
      <p:sp>
        <p:nvSpPr>
          <p:cNvPr id="202" name="TextBox 2"/>
          <p:cNvSpPr/>
          <p:nvPr/>
        </p:nvSpPr>
        <p:spPr>
          <a:xfrm>
            <a:off x="252360" y="1568520"/>
            <a:ext cx="948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h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873000" y="3068640"/>
          <a:ext cx="3384720" cy="1655640"/>
        </p:xfrm>
        <a:graphic>
          <a:graphicData uri="http://schemas.openxmlformats.org/drawingml/2006/table">
            <a:tbl>
              <a:tblPr/>
              <a:tblGrid>
                <a:gridCol w="1347840"/>
                <a:gridCol w="679680"/>
                <a:gridCol w="677880"/>
                <a:gridCol w="679320"/>
              </a:tblGrid>
              <a:tr h="331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cademic posi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e4a8"/>
                    </a:solidFill>
                  </a:tcPr>
                </a:tc>
              </a:tr>
              <a:tr h="330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stdoc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31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ssoc. professo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  <a:tr h="3304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fesso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f5e1"/>
                    </a:solidFill>
                  </a:tcPr>
                </a:tc>
              </a:tr>
              <a:tr h="331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ot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7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af1"/>
                    </a:solidFill>
                  </a:tcPr>
                </a:tc>
              </a:tr>
            </a:tbl>
          </a:graphicData>
        </a:graphic>
      </p:graphicFrame>
      <p:pic>
        <p:nvPicPr>
          <p:cNvPr id="204" name="Graf 4" descr=""/>
          <p:cNvPicPr/>
          <p:nvPr/>
        </p:nvPicPr>
        <p:blipFill>
          <a:blip r:embed="rId1"/>
          <a:stretch/>
        </p:blipFill>
        <p:spPr>
          <a:xfrm>
            <a:off x="4791240" y="2908440"/>
            <a:ext cx="3450960" cy="2097000"/>
          </a:xfrm>
          <a:prstGeom prst="rect">
            <a:avLst/>
          </a:prstGeom>
          <a:ln w="0">
            <a:noFill/>
          </a:ln>
        </p:spPr>
      </p:pic>
      <p:sp>
        <p:nvSpPr>
          <p:cNvPr id="205" name="TextBox 3"/>
          <p:cNvSpPr/>
          <p:nvPr/>
        </p:nvSpPr>
        <p:spPr>
          <a:xfrm>
            <a:off x="1331280" y="1255680"/>
            <a:ext cx="566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tructure of MU research staf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Isosceles Triangle 5"/>
          <p:cNvSpPr/>
          <p:nvPr/>
        </p:nvSpPr>
        <p:spPr>
          <a:xfrm flipH="1">
            <a:off x="-720" y="2017800"/>
            <a:ext cx="5140440" cy="3473280"/>
          </a:xfrm>
          <a:prstGeom prst="triangle">
            <a:avLst>
              <a:gd name="adj" fmla="val 50000"/>
            </a:avLst>
          </a:prstGeom>
          <a:solidFill>
            <a:srgbClr val="ffec99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1"/>
          <p:cNvSpPr/>
          <p:nvPr/>
        </p:nvSpPr>
        <p:spPr>
          <a:xfrm>
            <a:off x="684720" y="1549440"/>
            <a:ext cx="52693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alancing work and lif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% Ph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“happy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0% Ph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“rather happy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% Ph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“rather unhapp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PhD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“unhappy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Picture 5" descr="004.JPG"/>
          <p:cNvPicPr/>
          <p:nvPr/>
        </p:nvPicPr>
        <p:blipFill>
          <a:blip r:embed="rId1"/>
          <a:stretch/>
        </p:blipFill>
        <p:spPr>
          <a:xfrm>
            <a:off x="5622840" y="4500720"/>
            <a:ext cx="3429000" cy="2288880"/>
          </a:xfrm>
          <a:prstGeom prst="rect">
            <a:avLst/>
          </a:prstGeom>
          <a:ln w="0">
            <a:noFill/>
          </a:ln>
        </p:spPr>
      </p:pic>
      <p:sp>
        <p:nvSpPr>
          <p:cNvPr id="209" name="TextBox 1"/>
          <p:cNvSpPr/>
          <p:nvPr/>
        </p:nvSpPr>
        <p:spPr>
          <a:xfrm>
            <a:off x="7056360" y="3059280"/>
            <a:ext cx="301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6T05:21:30Z</dcterms:created>
  <dc:creator>Pavel Jílek</dc:creator>
  <dc:description/>
  <dc:language>en-US</dc:language>
  <cp:lastModifiedBy>Eliska Pudova</cp:lastModifiedBy>
  <dcterms:modified xsi:type="dcterms:W3CDTF">2014-12-01T19:54:52Z</dcterms:modified>
  <cp:revision>36</cp:revision>
  <dc:subject/>
  <dc:title>Prezentace aplikac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axCatchAll">
    <vt:lpwstr/>
  </property>
  <property fmtid="{D5CDD505-2E9C-101B-9397-08002B2CF9AE}" pid="3" name="TaxKeyword">
    <vt:lpwstr/>
  </property>
  <property fmtid="{D5CDD505-2E9C-101B-9397-08002B2CF9AE}" pid="4" name="TaxKeywordTaxHTField">
    <vt:lpwstr/>
  </property>
</Properties>
</file>