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60280" y="0"/>
            <a:ext cx="29530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A6E81-6B46-428C-A282-AE56EA6CED82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8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7052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27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60280" y="9443520"/>
            <a:ext cx="295308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07483-E2F3-4B53-B84E-2A34F14FF3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ástupný symbol pro datum 2"/>
          <p:cNvSpPr/>
          <p:nvPr/>
        </p:nvSpPr>
        <p:spPr>
          <a:xfrm>
            <a:off x="3860640" y="0"/>
            <a:ext cx="29530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5336-E02B-40E4-B6D5-6A511BD19FE9}" type="datetime">
              <a:rPr b="0" lang="cs-CZ" sz="1200" spc="-1" strike="noStrike">
                <a:solidFill>
                  <a:srgbClr val="000000"/>
                </a:solidFill>
                <a:latin typeface="Calibri"/>
              </a:rPr>
              <a:t>28.07.2026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5292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F82D-49F3-4F24-8C85-F7DC0C085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FAC3-9CEE-44BD-8851-B8BC196B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47E-B4F7-443C-8AF3-38C120BA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4784-2D13-4BD7-A008-ADF333750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865-3F00-41F9-AE09-13105CEF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F71C-CF43-4C9C-B7B2-4C2A6B94D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5AC6D-B378-48B2-B823-A15AE62C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30BE-D39B-4A47-820B-0A9C2BDC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0702-A782-4255-85B2-404CFA51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1CAC-2809-4627-8E3B-BCB0A95A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11B9-EA27-4A47-8432-EC2A914B8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86FF-902E-4A4D-9A9D-69CAD9CA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28.11.20137. 3. 20137.11.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Týden vědy a techniky 2012</a:t>
            </a:r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F8A3-7D6D-46CB-AC01-0C214BACF4C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mailto:marta.vohlidalova@soc.cas.cz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7702560" cy="2663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cs-CZ" sz="3600" spc="-1" strike="noStrike">
                <a:solidFill>
                  <a:srgbClr val="c00000"/>
                </a:solidFill>
                <a:latin typeface="Calibri"/>
              </a:rPr>
              <a:t>Postavení mladých lidí ve vědě: problémy a výzv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32960" y="45082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hDr. Marta Vohlídalová, Ph.D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Sociologický ústav AV ČR, v.v.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27.11.2014, Brno, CEITEC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nkc_logo_barevne_male"/>
          <p:cNvPicPr/>
          <p:nvPr/>
        </p:nvPicPr>
        <p:blipFill>
          <a:blip r:embed="rId1"/>
          <a:stretch/>
        </p:blipFill>
        <p:spPr>
          <a:xfrm>
            <a:off x="385920" y="260280"/>
            <a:ext cx="1595160" cy="1090800"/>
          </a:xfrm>
          <a:prstGeom prst="rect">
            <a:avLst/>
          </a:prstGeom>
          <a:ln w="0">
            <a:noFill/>
          </a:ln>
        </p:spPr>
      </p:pic>
      <p:sp>
        <p:nvSpPr>
          <p:cNvPr id="5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BF4D-3119-469B-89A7-60907C9E43BD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pic>
        <p:nvPicPr>
          <p:cNvPr id="52" name="Picture 9" descr="logo SOU"/>
          <p:cNvPicPr/>
          <p:nvPr/>
        </p:nvPicPr>
        <p:blipFill>
          <a:blip r:embed="rId2"/>
          <a:stretch/>
        </p:blipFill>
        <p:spPr>
          <a:xfrm>
            <a:off x="7380360" y="333360"/>
            <a:ext cx="1244520" cy="787320"/>
          </a:xfrm>
          <a:prstGeom prst="rect">
            <a:avLst/>
          </a:prstGeom>
          <a:ln w="0">
            <a:noFill/>
          </a:ln>
        </p:spPr>
      </p:pic>
      <p:pic>
        <p:nvPicPr>
          <p:cNvPr id="53" name="Obrázek 3" descr=""/>
          <p:cNvPicPr/>
          <p:nvPr/>
        </p:nvPicPr>
        <p:blipFill>
          <a:blip r:embed="rId3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LITERATUR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 (2010). Study on mobility patterns and career paths of EU researchers. Final Report. Brussels: EC. (http://ec.europa.eu/euraxess/pdf/research_policies/MORE_final_report_final_version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European Commission. (2012a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Communication from the Commission to the European Parliament, the Council, the European Economic and Social Committee and the Committee of the Regions: A Reinforced European Research Area Partnership for Excellence and Growth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russels: EC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Červinková, A. (2010). „Postdokovat po světě“: genderové politiky akademické mobility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Gender rovné příležitosti výzku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, 11(1), 49–59. Moguérou, P. (2004). A double gender-family inequality phenomenon in the international mobility of young researchers. (http://128.118.178.162/eps/it/papers/0403/0403003.pdf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Dudová, R., Hašková, H. 2010. „Diskursy, instituce a praxe péče o děti do tří let ve francouzsko-české komparativní perspektivě“. Gender, rovné příležitosti, výzkum 12 (2): 36-47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Hays, S. 1996. The cultural contradictions of motherhood. New Haven, CT: Yale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M., Červinková, A. 2013- „Vlastní laboratoř“: Akademické trajektorie a gender v současných biovědách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Gender, rovné příležitosti, výzkum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14 (1): 15-26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Linková, M., Stockelová, T. 2012. „Public accountability and the politicization of science: The peculiar journey of Czech research assesment.“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Science and Public POlicy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39 (2012): 618-629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Shauman, K., &amp; Xie, Y. (1996). Geographic mobility of scientists: sex differences and family constraints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Demography 33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(4), 455-468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, Červinková, A. 2013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Vědci a vědkyně v pohybu: o akademické mobilitě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Ú AV Č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4. „Acadmic mobility in the context of linked-lives“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Human Affaires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24 (1): 89-102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Vohlídalová, M. 2013. „Vědkyně mezi dvěma mlýnskými kameny: o podmínkách kombinace práce a rodičovství ve vědecké profesi“ Pp. 99-126 in Linková, M. et al. </a:t>
            </a:r>
            <a:r>
              <a:rPr b="0" i="1" lang="cs-CZ" sz="15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. </a:t>
            </a:r>
            <a:r>
              <a:rPr b="0" lang="cs-CZ" sz="1500" spc="-1" strike="noStrike">
                <a:solidFill>
                  <a:srgbClr val="000000"/>
                </a:solidFill>
                <a:latin typeface="Calibri"/>
              </a:rPr>
              <a:t>Praha: Sociologické nakladatelství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Wolf-Wendel, L., S.B. Twombly, S. Rice. (2003). </a:t>
            </a:r>
            <a:r>
              <a:rPr b="0" i="1" lang="en-GB" sz="1500" spc="-1" strike="noStrike">
                <a:solidFill>
                  <a:srgbClr val="000000"/>
                </a:solidFill>
                <a:latin typeface="Calibri"/>
              </a:rPr>
              <a:t>The Two-Body Problem</a:t>
            </a:r>
            <a:r>
              <a:rPr b="0" lang="en-GB" sz="1500" spc="-1" strike="noStrike">
                <a:solidFill>
                  <a:srgbClr val="000000"/>
                </a:solidFill>
                <a:latin typeface="Calibri"/>
              </a:rPr>
              <a:t>. Baltimore: The Johns Hopkins University Pres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1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ROLE VĚDY VE SPOLEČNOSTI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nástroj poznání a lidské emancipace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obecný společenský prospěch) →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a jako prostředek ekonomického růstu a prosperit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měřítkem užitečnosti je (okamžitý) ekonomický profit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nková, 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ö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ckelová 201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FINANCOVÁNÍ VĚDY A JEJÍHO HODNOCE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vedení Metodiky hodnocení v roce 2004, od roku 2009 Metodika jako základ pro výpočet institucionální dota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ování závislosti institucí VaV na účelovém financování (Např. AV ČR: institucionální dotace 2007: 62 %, 2013: 35 %), kritika ze stra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mezinárodního auditu výzkumu, vývoje a inovací v 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hranice 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nižující se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úspěšnost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adatelů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GA ČR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35,7 % - 2007, 20,8 % - 2010, 16,5 % -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PROMĚNA USPOŘÁDÁNÍ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ECKÉ PRÁC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yšující se důraz na akademickou mobilitu – mobilita jako předpoklad excelence </a:t>
            </a: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(viz i pravidla pro žadatele o Juniorské granty GAČR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a budování konkurenceschopné vědy a potažmo i ekonomiky (viz tzv. ERA Comminucation 7/2012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C6BE-5CF8-40F0-B928-1095393702D4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6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Arial Unicode MS"/>
                <a:ea typeface="Arial"/>
              </a:rPr>
              <a:t>PROMĚNY VĚDY 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ynamizace uspořádání vědeckých týmů: mizení pozic samostatných vědeckých pracovníků, nárůst počtu dočasných postdoktorských pozic vyžadujících extrémní mobilitu (prostorovou, časovou) i soutěživost (Linková, Červinková 2013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ktorské a postdoktorské pozice: často nízké pracovní standardy, 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ětšina smluv na dobu určitou, část z nich není kryta sociálním pojištěním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ípadě doktorandů často DPP, DPČ (x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ociální pojištění, mateřská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racovních smluv na dobu určitou: ztráta nároku na odstupné v případě ztráty pracovní pozice, celková ekonomická nejistota, rodičovství a mateřství;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řetězení postdoktorských stáž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kaz řetězení pracovním smluv na dobu určitou: novela zákoníku práce z roku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201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ušící výjimku pro instituce VaV a VŠ ohledně řetězení pracovních smluv (dnes: pravidlo „dvakrát a dost“, max. délka smlouvy 3 roky) x reali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y o ideální pracovní dráze: Ph.D., postdoktorská stáž, samostatná/vedoucí pozice x reálné možnosti jejího naplnění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774F-20DB-4789-BF0E-FC234EF406C3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6836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Jak se s touto situací vyrovnávají mladí vědci a vědkyně?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viz Cidlinská, L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ilná normalizace nejistoty práce, trvalá pracovní pozice jako nadstandard, nejčastější odpověď týkající se profesních plánů (s výjimkou ukončení Ph.D.):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„nevím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ěda je mladými lidmi chápána spíše jako zaměstnání (intelektuálně a časově náročné), nikoliv jako poslá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terému je třeba obětovat vše a který je hlavním smyslem život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ožnost odchodu z vědy jakožto nedílná součást uvažování o další kariéře:  Perspektiva uplatnění mimo vědu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mezený soukromý výzkumný sektor, akademická orientace doktorských programů, stereotypní představy zaměstnavatelů (překvalifikovanost, nedostatek praxe), absence kariérního poradenství na VŠ/institucích Va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cc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lhávající „ekonomie příslibu“: velké pracovní nasazení, flexibilita a nejistota na začátku pracovní dráhy byly tradičně vykupovány příslibem budoucího osamostatnění se, stability a tvůrčí svobody, které však již nelze garantova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Zástupný symbol pro číslo snímku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C9E1-F331-4EDB-B8DA-EE09E61FA0D1}" type="slidenum">
              <a:rPr b="0" lang="cs-CZ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468360" y="33336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  <a:ea typeface="Arial"/>
              </a:rPr>
              <a:t>ROSTOUCÍ NEJISTOTA A PREKARIZACE VĚDECKÉ PROFESE II</a:t>
            </a:r>
            <a:endParaRPr b="1" lang="en-US" sz="2400" spc="-1" strike="noStrike">
              <a:solidFill>
                <a:srgbClr val="ff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KOMBINACE VĚDECKÉ PRÁCE A RODIČOVSTV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ědci/kyně mezi dvěma mlýnskými kameny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(Vohlídalová 2013, Link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vědeckého pracovního prostřed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 ideál lineární pracovní dráhy nepřerušovaný kariérními přestávkami, časová rozpínavost práce, soutěživ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75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ý model: „minimální mateřství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analizace problému kombinace práce a rodičovství –flexibilita jako všelék, individualizace problému, důraz na roli vlastní volby a svobodného rozhodnutí kombinace práce a péč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astavení institucionálních podmínek péče: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onzervativní rodinná politika (důraz na dlouhý pobyt žen s dětmi v domácnosti, reálná nedostupnost volby zkrácené varianty rodičovské, nedostupnost zařízení péče i pro děti starší 3 let, absence zařízení pro děti mladší 3 le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eferovaná podoba mateřství: „intenzivní mateřství“ (Hays 1996) – maximální pozornost věnovaná dítěti, dlouhodobý pobyt matky v domácno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edstava o nesouladu mezi zájmy dítěte a ekonomickou aktivitou matky (x Fr a jiné kulturní kontexty) (Dudová, Hašková 201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-322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radiční dělba genderových rolí v domácnosti (včetně dvoukariérních párů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Reálná volba možnosti kombinace práce a péče je značně omezená a podmínky pro kombinaci vědecké profese a rodičovství jsou nevyhovujíc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což negativně ovlivňuje zejména ženské pracovní dráh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Akademická mobilita jako jedna z priorit Evropských vědních politi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Z mobility se stává předpoklad kariérního růstu → vylučování těch, co nejsou (nemohou) být mobilní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Genderové rozdíly (zkušenosti s mobilitou v ČR - HEI sektor 45% m, 33% ž, veřejní výzkumný sektor 70 % m a 53 % ž; EC 2010)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lišné vzorce: ženy kratší stáže do 6 měsíců v době PhD, muži častěji delší pobyty a postdoktorské stáže a regulérní pracovní pozic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Rodinný stav a rodičovství a zejména mateřství (Moguérou 2004, Shauman a Xie 1996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alá pozornost věnovaná dopadům mobility na soukromý život migrujících vědců a jejich rodin a partner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etodologie: 16 rozhovorů s vědci a vědkyněmi se zkušeností s mobilitou, 16 společných rozhovorů s akademickými pá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AKADEMICKÁ MOBILITA, PARTNERSKÝ A RODINNÝ ŽIVOT, NÁVRA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uspořádání soukromého a rodinného života v důsledku mobility (migrující vědkyně – LAT, migrující vědci – stěhování rodin) (Vohlídalová 2014, Červinková 2010, Vohlídalová, Červinková 2013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Genderové rozdíly v argumentac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opady mobility na partnerky mobilních vědců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wo-body problem“ (Wolf-Wendel 2009) – problémy s hledáním práce, uzavřené pracovní trhy a nedostatečná podpora ze strany institucí (x podmínky migrujících pracovních eli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agnace pracovní kariéry, zvětšování mezery mezi jeho a její kariéro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city ztráty životní náplně, deprese, partnerské konflik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spojené s kombinací mobility a rodičovství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soké pracovní vypětí spojené s postdoktorskými stážem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inanční nákladno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v podobě pojištění členů rodiny (mimo E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átěž pro dě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blémy při návratu a integraci do českého vědeckého prostředí -zahraniční zkušenost a seznam kvalitních publikací negarantuje dobrou pracovní pozici a adekvátní finanční ohodnocení po návratu (viz selhávající ekonomie příslibu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Calibri"/>
              </a:rPr>
              <a:t>ZÁVĚR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může v takto nastaveném pracovním prostředí prospí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Kdo bude schopen a ochoten v takto nastavené vědě pracova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Jaké znalosti a jaká výzkumná témata tito „vyselektovaní“ pracovníci přinesou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Budou tato zjištění prospěšná všem skupinám společnosti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cc0000"/>
                </a:solidFill>
                <a:latin typeface="Calibri"/>
              </a:rPr>
              <a:t>Děkuji za pozornos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8000"/>
                </a:solidFill>
                <a:uFillTx/>
                <a:latin typeface="Calibri"/>
                <a:hlinkClick r:id="rId1"/>
              </a:rPr>
              <a:t>marta.vohlidalov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oc.cas.cz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Obrázek 3" descr=""/>
          <p:cNvPicPr/>
          <p:nvPr/>
        </p:nvPicPr>
        <p:blipFill>
          <a:blip r:embed="rId2"/>
          <a:stretch/>
        </p:blipFill>
        <p:spPr>
          <a:xfrm>
            <a:off x="1120680" y="5950080"/>
            <a:ext cx="69501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4920" y="620640"/>
            <a:ext cx="469116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Linková, Cidlinská, Tenglerová, Vohlídalová, Červinková: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Nejisté vyhlídky: proměny vědecké profese z genderové perspektivy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SLON 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77_105_918"/>
          <p:cNvPicPr/>
          <p:nvPr/>
        </p:nvPicPr>
        <p:blipFill>
          <a:blip r:embed="rId1"/>
          <a:stretch/>
        </p:blipFill>
        <p:spPr>
          <a:xfrm>
            <a:off x="5508720" y="907920"/>
            <a:ext cx="311760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0:11:02Z</dcterms:created>
  <dc:creator>System User</dc:creator>
  <dc:description/>
  <cp:keywords>WLB Konference</cp:keywords>
  <dc:language>en-US</dc:language>
  <cp:lastModifiedBy>Eliska Pudova</cp:lastModifiedBy>
  <dcterms:modified xsi:type="dcterms:W3CDTF">2014-12-01T19:55:39Z</dcterms:modified>
  <cp:revision>259</cp:revision>
  <dc:subject/>
  <dc:title> Postavení mladých lidí ve vědě: problémy a výzv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opis">
    <vt:lpwstr/>
  </property>
  <property fmtid="{D5CDD505-2E9C-101B-9397-08002B2CF9AE}" pid="3" name="TaxCatchAll">
    <vt:lpwstr>5;#WLB Konference</vt:lpwstr>
  </property>
  <property fmtid="{D5CDD505-2E9C-101B-9397-08002B2CF9AE}" pid="4" name="TaxKeyword">
    <vt:lpwstr>5;#WLB Konference|5939ca3c-536a-4404-92ef-45acb3ed99a7</vt:lpwstr>
  </property>
  <property fmtid="{D5CDD505-2E9C-101B-9397-08002B2CF9AE}" pid="5" name="TaxKeywordTaxHTField">
    <vt:lpwstr>WLB Konference|5939ca3c-536a-4404-92ef-45acb3ed99a7</vt:lpwstr>
  </property>
</Properties>
</file>