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6B8DC-9A8B-40BB-86E7-51D3493BB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0465-E966-45FC-A81C-9913AFF25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42299-CA76-4F78-A9BD-E040F5F44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0B7E-35FC-482E-AF7A-319A6C4ED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BA3E2-7056-422E-81BC-BC9A8ACD93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FFF6A-80EC-49BA-9747-EDD9A0BF69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B1D2E-B5D2-44A7-946F-B327AE4CCA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B3CC4-7FD8-4C14-82FB-EA6394B378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672E7-73C8-417B-B882-769608A62C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E58D9-6A88-445F-896D-562CCE1EF7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721BE-E043-4E97-A874-82E88597C9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BC25A-C0A9-4395-8DD1-A20DE7CE3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A64C4-DB2C-49A8-B5A5-7CFAAB2D0E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E1F9D-EC7A-4779-A583-19150E3EBC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6329F-4B02-499B-9698-CD36EE3DC6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AE06F-36D6-4737-AC45-E279BD4AB5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19D3A-D8BF-49FC-B861-F348B1D071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99C8-072E-4AC0-8C73-7F64368201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1757-ED79-4EE5-B330-F3715E985C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EA10-407B-4FEE-8F04-04D7E669C2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FAA9-F880-4A1C-A7F7-66A41F770A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6D72-EA3F-45FE-AD97-21819F3B92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AF99F-DDA3-4772-B173-4B6E58CCF9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F0FB-3191-497B-B300-4AD83F39C1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70FF-3209-4611-BFFD-CDE23FCD69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DED9-9A3F-474F-9A57-A33DF5CD56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7A29-4E77-445B-9F15-2EB172C670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4457-DF0A-485F-8CDF-69F652BC7C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558C-BF16-4D44-A648-279E76320A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F355-4298-48BD-B565-BE50B46E8F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6C355-B4DC-4C3C-BB20-E0EBB090BF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65245-0167-4C40-9200-898489790BA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A1539C-724E-4544-B875-3D4F1FEE7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AC31-4A0F-4D81-8097-9A366FA310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C16A6-B90D-4EDD-B4F9-5A05AD0402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18E24-39B8-4B32-A626-B8F97962D7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5FD3A-400D-457A-AA51-5B07660747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09008-60F7-42CE-83A5-BFFDFA4AEF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59086-78AE-42AF-BC7A-15668792F2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08CF9-474F-41B2-BD30-2C5A2A69DCE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1B533-E243-4505-86F0-3255A82B8D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12970-B3C3-4D0B-AC73-317CC5EF516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A4B47-EB7F-42AC-98A4-46C1327A9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0F01C-741A-4F2C-9F82-5326FCCB6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41603-3D11-45DF-BD00-0CB089D5F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75C26-756B-4C3C-969D-D3704A1FB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35572-1998-429A-B56A-D3EFEA304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E050C-01B7-4D93-B353-2C1E87446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2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19"/>
            <p:cNvSpPr/>
            <p:nvPr/>
          </p:nvSpPr>
          <p:spPr>
            <a:xfrm>
              <a:off x="0" y="0"/>
              <a:ext cx="9144000" cy="80964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3" name="Picture 23" descr="zahlavi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0720" y="1125360"/>
            <a:ext cx="78278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87d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20360" y="2017800"/>
            <a:ext cx="8234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E7FB-EB80-4420-8246-1EFEAB5B54AE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Rectangle 12"/>
            <p:cNvSpPr/>
            <p:nvPr/>
          </p:nvSpPr>
          <p:spPr>
            <a:xfrm>
              <a:off x="0" y="0"/>
              <a:ext cx="9144000" cy="80964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7" name="Picture 13" descr="zahlavi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5243-26DC-46B1-99A6-43231887AB8E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87d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Rectangle 1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Rectangle 11"/>
            <p:cNvSpPr/>
            <p:nvPr/>
          </p:nvSpPr>
          <p:spPr>
            <a:xfrm>
              <a:off x="0" y="0"/>
              <a:ext cx="9144000" cy="80964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91" name="Picture 12" descr="zahlavi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2521080" y="1125000"/>
            <a:ext cx="64339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5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709F-6680-4E28-AA76-89F72115DE34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2" name="Rectangle 1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Rectangle 21"/>
            <p:cNvSpPr/>
            <p:nvPr/>
          </p:nvSpPr>
          <p:spPr>
            <a:xfrm>
              <a:off x="0" y="0"/>
              <a:ext cx="9144000" cy="234468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34" name="Picture 24" descr="titl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0720" y="1125360"/>
            <a:ext cx="78278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87d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20360" y="2017800"/>
            <a:ext cx="8234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7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2A7A-ECB4-4209-AAB0-B1D79C22FF2A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00040" y="2768400"/>
            <a:ext cx="696420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87d"/>
                </a:solidFill>
                <a:latin typeface="Tahoma"/>
              </a:rPr>
              <a:t>Work-life balance in science:</a:t>
            </a:r>
            <a:br>
              <a:rPr sz="3200"/>
            </a:br>
            <a:br>
              <a:rPr sz="3200"/>
            </a:br>
            <a:r>
              <a:rPr b="0" i="1" lang="cs-CZ" sz="3200" spc="-1" strike="noStrike">
                <a:solidFill>
                  <a:srgbClr val="00287d"/>
                </a:solidFill>
                <a:latin typeface="Tahoma"/>
              </a:rPr>
              <a:t>struggling for papers and time off from the lab</a:t>
            </a:r>
            <a:endParaRPr b="1" lang="en-US" sz="3200" spc="-1" strike="noStrike">
              <a:solidFill>
                <a:srgbClr val="00287d"/>
              </a:solidFill>
              <a:latin typeface="Tahoma"/>
            </a:endParaRPr>
          </a:p>
        </p:txBody>
      </p:sp>
      <p:pic>
        <p:nvPicPr>
          <p:cNvPr id="176" name="Obrázek 3" descr=""/>
          <p:cNvPicPr/>
          <p:nvPr/>
        </p:nvPicPr>
        <p:blipFill>
          <a:blip r:embed="rId1"/>
          <a:stretch/>
        </p:blipFill>
        <p:spPr>
          <a:xfrm>
            <a:off x="2300400" y="5916600"/>
            <a:ext cx="634032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Marie Curie.tiff"/>
          <p:cNvPicPr/>
          <p:nvPr/>
        </p:nvPicPr>
        <p:blipFill>
          <a:blip r:embed="rId1"/>
          <a:stretch/>
        </p:blipFill>
        <p:spPr>
          <a:xfrm>
            <a:off x="2155680" y="884160"/>
            <a:ext cx="5070600" cy="59086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4"/>
          <p:cNvSpPr/>
          <p:nvPr/>
        </p:nvSpPr>
        <p:spPr>
          <a:xfrm>
            <a:off x="-74520" y="2246400"/>
            <a:ext cx="425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der equity in the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6152760" y="3300480"/>
            <a:ext cx="277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fertility trap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3859920" y="4702320"/>
            <a:ext cx="53614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far below the “replacement level” in many rich countr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decline is a direct product of greater opportunities for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marriages and reduction of births for the well-educated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529920" y="5734080"/>
            <a:ext cx="8093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time to address these challenges is now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236520" y="2482920"/>
            <a:ext cx="8546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young family income (? M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childcare help/recommend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idized day care for children (Sweden, France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le postdoctoral fellow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-family-leave grant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essional contacts during family leave (Dept Biol M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le start dates for PhD and gr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s for remote panel/meeting partici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69120" y="1217520"/>
            <a:ext cx="91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y other creative suggestion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Obrázek 3" descr=""/>
          <p:cNvPicPr/>
          <p:nvPr/>
        </p:nvPicPr>
        <p:blipFill>
          <a:blip r:embed="rId1"/>
          <a:stretch/>
        </p:blipFill>
        <p:spPr>
          <a:xfrm>
            <a:off x="447840" y="6105600"/>
            <a:ext cx="69498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324000" y="1058760"/>
            <a:ext cx="863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U is No. 3 in CR after Academy of Sciences and Charles University in term of research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xcellent infrastru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bout 900 original research papers with IF each year, most of them with major contribution of PhDs and postdoctoral scienti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apidly growing number of citations per article – increasing qua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creasing collaboration with researchers abroa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10" descr="fch 9"/>
          <p:cNvPicPr/>
          <p:nvPr/>
        </p:nvPicPr>
        <p:blipFill>
          <a:blip r:embed="rId6"/>
          <a:stretch/>
        </p:blipFill>
        <p:spPr>
          <a:xfrm>
            <a:off x="4676760" y="4014720"/>
            <a:ext cx="3336840" cy="2219400"/>
          </a:xfrm>
          <a:prstGeom prst="rect">
            <a:avLst/>
          </a:prstGeom>
          <a:ln w="9360">
            <a:solidFill>
              <a:srgbClr val="333399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79" name="Obrázek 3" descr=""/>
          <p:cNvPicPr/>
          <p:nvPr/>
        </p:nvPicPr>
        <p:blipFill>
          <a:blip r:embed="rId7"/>
          <a:stretch/>
        </p:blipFill>
        <p:spPr>
          <a:xfrm>
            <a:off x="990720" y="4008600"/>
            <a:ext cx="3290760" cy="2219040"/>
          </a:xfrm>
          <a:prstGeom prst="rect">
            <a:avLst/>
          </a:prstGeom>
          <a:ln w="9360">
            <a:solidFill>
              <a:srgbClr val="333399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80" name="Rectangle 7"/>
          <p:cNvSpPr/>
          <p:nvPr/>
        </p:nvSpPr>
        <p:spPr>
          <a:xfrm>
            <a:off x="68400" y="3355920"/>
            <a:ext cx="90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 world average in many fields, some teams excell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Untitled.tiff"/>
          <p:cNvPicPr/>
          <p:nvPr/>
        </p:nvPicPr>
        <p:blipFill>
          <a:blip r:embed="rId1"/>
          <a:stretch/>
        </p:blipFill>
        <p:spPr>
          <a:xfrm>
            <a:off x="1440" y="1158840"/>
            <a:ext cx="5432400" cy="49467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"/>
          <p:cNvSpPr/>
          <p:nvPr/>
        </p:nvSpPr>
        <p:spPr>
          <a:xfrm>
            <a:off x="4640400" y="1628640"/>
            <a:ext cx="3349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What PIs exp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Tal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Motiv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Hard work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4641840" y="3303720"/>
            <a:ext cx="437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ng hours working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w sala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cessive demands and great pressu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mited perspective to get permanent jo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leisure activ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fficult personal lif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3048120" y="5249880"/>
            <a:ext cx="60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 of doing science, great discove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d stellar carrier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7" descr="1.tiff"/>
          <p:cNvPicPr/>
          <p:nvPr/>
        </p:nvPicPr>
        <p:blipFill>
          <a:blip r:embed="rId2"/>
          <a:stretch/>
        </p:blipFill>
        <p:spPr>
          <a:xfrm>
            <a:off x="6545160" y="2176560"/>
            <a:ext cx="25686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Marie Curie.tiff"/>
          <p:cNvPicPr/>
          <p:nvPr/>
        </p:nvPicPr>
        <p:blipFill>
          <a:blip r:embed="rId1"/>
          <a:stretch/>
        </p:blipFill>
        <p:spPr>
          <a:xfrm>
            <a:off x="2155680" y="884160"/>
            <a:ext cx="5070600" cy="59086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4"/>
          <p:cNvSpPr/>
          <p:nvPr/>
        </p:nvSpPr>
        <p:spPr>
          <a:xfrm>
            <a:off x="-74520" y="2246400"/>
            <a:ext cx="425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der equity in the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6152760" y="3300480"/>
            <a:ext cx="277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fertility trap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3859920" y="4702320"/>
            <a:ext cx="53614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far below the “replacement level” in many rich countr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decline is a direct product of greater opportunities for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marriages and reduction of births for the well-educated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Map 1.tiff"/>
          <p:cNvPicPr/>
          <p:nvPr/>
        </p:nvPicPr>
        <p:blipFill>
          <a:blip r:embed="rId1"/>
          <a:stretch/>
        </p:blipFill>
        <p:spPr>
          <a:xfrm>
            <a:off x="600120" y="1311120"/>
            <a:ext cx="7786800" cy="49388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600120" y="4494240"/>
            <a:ext cx="2079720" cy="16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689120" y="1311120"/>
            <a:ext cx="1471680" cy="1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4448160" y="5889600"/>
            <a:ext cx="89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 : M rati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649440" y="1486080"/>
            <a:ext cx="197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ender and research outpu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00240" y="2722680"/>
            <a:ext cx="642600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Greatest gender parity is often in former communist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Low research output ~ female domi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omen dominate science in Macedonia, Sri Lanka, Latvia, Ukraine and Bosnia/Herzegovi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omen are globally less likely to participate in collaboration and be listed as either first or last autho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" descr="Map 2.tiff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52182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4570920" y="5826240"/>
            <a:ext cx="772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 : M rati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2282760" y="1200240"/>
          <a:ext cx="2665440" cy="2422440"/>
        </p:xfrm>
        <a:graphic>
          <a:graphicData uri="http://schemas.openxmlformats.org/drawingml/2006/table">
            <a:tbl>
              <a:tblPr/>
              <a:tblGrid>
                <a:gridCol w="865080"/>
                <a:gridCol w="576360"/>
                <a:gridCol w="557280"/>
                <a:gridCol w="666720"/>
              </a:tblGrid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cul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c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42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cial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i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orma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du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42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rts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conom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pic>
        <p:nvPicPr>
          <p:cNvPr id="199" name="Graf 6" descr=""/>
          <p:cNvPicPr/>
          <p:nvPr/>
        </p:nvPicPr>
        <p:blipFill>
          <a:blip r:embed="rId1"/>
          <a:stretch/>
        </p:blipFill>
        <p:spPr>
          <a:xfrm>
            <a:off x="5041800" y="1225440"/>
            <a:ext cx="3705480" cy="20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2290680" y="3994200"/>
          <a:ext cx="2735280" cy="2422440"/>
        </p:xfrm>
        <a:graphic>
          <a:graphicData uri="http://schemas.openxmlformats.org/drawingml/2006/table">
            <a:tbl>
              <a:tblPr/>
              <a:tblGrid>
                <a:gridCol w="863640"/>
                <a:gridCol w="576360"/>
                <a:gridCol w="611280"/>
                <a:gridCol w="684000"/>
              </a:tblGrid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cul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c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80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388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cial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i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orma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du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42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rts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conom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pic>
        <p:nvPicPr>
          <p:cNvPr id="201" name="Graf 8" descr=""/>
          <p:cNvPicPr/>
          <p:nvPr/>
        </p:nvPicPr>
        <p:blipFill>
          <a:blip r:embed="rId2"/>
          <a:stretch/>
        </p:blipFill>
        <p:spPr>
          <a:xfrm>
            <a:off x="5145120" y="3968640"/>
            <a:ext cx="3700440" cy="21765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"/>
          <p:cNvSpPr/>
          <p:nvPr/>
        </p:nvSpPr>
        <p:spPr>
          <a:xfrm>
            <a:off x="252360" y="1568520"/>
            <a:ext cx="948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873000" y="3068640"/>
          <a:ext cx="3384720" cy="1655640"/>
        </p:xfrm>
        <a:graphic>
          <a:graphicData uri="http://schemas.openxmlformats.org/drawingml/2006/table">
            <a:tbl>
              <a:tblPr/>
              <a:tblGrid>
                <a:gridCol w="1347840"/>
                <a:gridCol w="679680"/>
                <a:gridCol w="677880"/>
                <a:gridCol w="679320"/>
              </a:tblGrid>
              <a:tr h="331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ademic pos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tdo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31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oc. profess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30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fess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31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pic>
        <p:nvPicPr>
          <p:cNvPr id="204" name="Graf 4" descr=""/>
          <p:cNvPicPr/>
          <p:nvPr/>
        </p:nvPicPr>
        <p:blipFill>
          <a:blip r:embed="rId1"/>
          <a:stretch/>
        </p:blipFill>
        <p:spPr>
          <a:xfrm>
            <a:off x="4791240" y="2908440"/>
            <a:ext cx="3450960" cy="20970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1331280" y="1255680"/>
            <a:ext cx="56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ucture of MU research staf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Isosceles Triangle 5"/>
          <p:cNvSpPr/>
          <p:nvPr/>
        </p:nvSpPr>
        <p:spPr>
          <a:xfrm flipH="1">
            <a:off x="-720" y="2017800"/>
            <a:ext cx="5140440" cy="3473280"/>
          </a:xfrm>
          <a:prstGeom prst="triangle">
            <a:avLst>
              <a:gd name="adj" fmla="val 50000"/>
            </a:avLst>
          </a:prstGeom>
          <a:solidFill>
            <a:srgbClr val="ffec9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684720" y="1549440"/>
            <a:ext cx="52693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alancing work and lif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happ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rather happ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rather unhapp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unhapp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5" descr="004.JPG"/>
          <p:cNvPicPr/>
          <p:nvPr/>
        </p:nvPicPr>
        <p:blipFill>
          <a:blip r:embed="rId1"/>
          <a:stretch/>
        </p:blipFill>
        <p:spPr>
          <a:xfrm>
            <a:off x="5622840" y="4500720"/>
            <a:ext cx="3429000" cy="22888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"/>
          <p:cNvSpPr/>
          <p:nvPr/>
        </p:nvSpPr>
        <p:spPr>
          <a:xfrm>
            <a:off x="7056360" y="3059280"/>
            <a:ext cx="30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05:21:30Z</dcterms:created>
  <dc:creator>Pavel Jílek</dc:creator>
  <dc:description/>
  <dc:language>en-US</dc:language>
  <cp:lastModifiedBy>Eliska Pudova</cp:lastModifiedBy>
  <dcterms:modified xsi:type="dcterms:W3CDTF">2014-12-01T19:54:52Z</dcterms:modified>
  <cp:revision>36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axCatchAll">
    <vt:lpwstr/>
  </property>
  <property fmtid="{D5CDD505-2E9C-101B-9397-08002B2CF9AE}" pid="3" name="TaxKeyword">
    <vt:lpwstr/>
  </property>
  <property fmtid="{D5CDD505-2E9C-101B-9397-08002B2CF9AE}" pid="4" name="TaxKeywordTaxHTField">
    <vt:lpwstr/>
  </property>
</Properties>
</file>