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8A14-9B2A-43A5-B259-5F469FBAB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C0304-1964-49AD-9848-5318EB30C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A0CF-6882-4156-B117-01CC91582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5BFB7-39A6-4A21-A537-7B9A16AB5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0CA9F-536E-4744-9ABD-4D170B076F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A5712-F668-4D65-91B0-55C25A802B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38E81-B2B6-4A50-8DC5-A333DED7EA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747BC-D53E-4912-AD1F-3216BCCD6A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E48CB-9492-4C40-B91A-3C665F5F6A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4D724-9BD9-4735-A5D2-7F5A6D05CC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78D79-3E2A-49B3-8E5C-BCC0DFCB0C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F604E-B9DB-4101-8563-7FCB06225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E064B-9275-444F-B063-1543F20290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54CF5-DA8B-421C-928A-ABBC6E77DB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C5DD7-A3CD-4CFA-B2B8-F59FEB56A0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A3B65-30DE-4F09-AC29-3C49374802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3F24F-9C70-456D-AB52-DCE4FA3CEA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3146-8D57-4EE7-8FAD-ECD39B6651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EE8C-1452-4FA1-9F99-0B08A71A85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B90B-94AC-4BCD-9D15-2FFBDF6422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5196-2B41-4EF3-A11B-F33917C898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4448-B40F-4E78-862C-1157119223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5C088-2485-4C96-B9A8-8D2B595601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215F-7340-436E-A951-23630B33F0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1ACF-1148-4ECE-A7A8-FDDA0EA759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F2A2-91AB-4EAA-BB88-7E880D9401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DE56-863E-419D-ADF7-9C64342080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6107-E949-467F-A195-C23163D20A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BD5D-D650-418A-9A4D-4A7AAEB9C8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93E3-E62E-4185-A083-358ECA2B51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65F0C-EF72-4734-9CE4-49EAFCA28F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9B98F-816C-4F4F-B415-A7A1A5316E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06CD0-A19A-4160-BAE6-4C5D6490D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8274-1BB6-48BB-8530-EC82D0A690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C5A85-0CED-4172-9822-0DF1DC10341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8E8CF-58D3-46F0-867D-4880D244B2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4FBA1-5564-4627-8D70-CABB5AF92D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71F0F-174C-4BCB-B6DB-B3F1825A056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A77D8-FF0C-4C4A-AAC0-2D8E86A254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5766A-15A3-4551-8B1C-9E7344CDEE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4EE79-A1E4-4C31-88BF-24D090F81B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A2A80-C3FC-4782-8119-DAA344D1F5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73EE0-287B-43C8-B3B8-D16EC61B2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BA322-9CAB-4DD1-B006-995433986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833D4-3CC2-49B6-8A16-E9F8259A0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A32C-4974-4D1C-B359-5E24A4A7B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8F80E-9984-44B1-BEB3-F56BCA3FF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4330D-D109-433F-9574-237E8FF9F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2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19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" name="Picture 23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0720" y="1125360"/>
            <a:ext cx="78278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0360" y="2017800"/>
            <a:ext cx="823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B6FE-9FE6-4399-8C95-F61384C423AF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Rectangle 12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7" name="Picture 13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8B3E-ABD5-44BE-B422-BC7A25055DDC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Rectangle 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91" name="Picture 12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2521080" y="1125000"/>
            <a:ext cx="64339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5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5046-BCD0-4FEB-BE47-7C2F3F60D252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2" name="Rectangle 1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0" y="0"/>
              <a:ext cx="9144000" cy="234468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34" name="Picture 24" descr="titl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720" y="1125360"/>
            <a:ext cx="78278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20360" y="2017800"/>
            <a:ext cx="823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7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8F4D-CA1C-4215-BC4B-40FDD3A2B901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00040" y="2768400"/>
            <a:ext cx="696420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87d"/>
                </a:solidFill>
                <a:latin typeface="Tahoma"/>
              </a:rPr>
              <a:t>Work-life balance in science:</a:t>
            </a:r>
            <a:br>
              <a:rPr sz="3200"/>
            </a:br>
            <a:br>
              <a:rPr sz="3200"/>
            </a:br>
            <a:r>
              <a:rPr b="0" i="1" lang="cs-CZ" sz="3200" spc="-1" strike="noStrike">
                <a:solidFill>
                  <a:srgbClr val="00287d"/>
                </a:solidFill>
                <a:latin typeface="Tahoma"/>
              </a:rPr>
              <a:t>struggling for papers and time off from the lab</a:t>
            </a:r>
            <a:endParaRPr b="1" lang="en-US" sz="3200" spc="-1" strike="noStrike">
              <a:solidFill>
                <a:srgbClr val="00287d"/>
              </a:solidFill>
              <a:latin typeface="Tahoma"/>
            </a:endParaRPr>
          </a:p>
        </p:txBody>
      </p:sp>
      <p:pic>
        <p:nvPicPr>
          <p:cNvPr id="176" name="Obrázek 3" descr=""/>
          <p:cNvPicPr/>
          <p:nvPr/>
        </p:nvPicPr>
        <p:blipFill>
          <a:blip r:embed="rId1"/>
          <a:stretch/>
        </p:blipFill>
        <p:spPr>
          <a:xfrm>
            <a:off x="2300400" y="5916600"/>
            <a:ext cx="634032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Marie Curie.tiff"/>
          <p:cNvPicPr/>
          <p:nvPr/>
        </p:nvPicPr>
        <p:blipFill>
          <a:blip r:embed="rId1"/>
          <a:stretch/>
        </p:blipFill>
        <p:spPr>
          <a:xfrm>
            <a:off x="2155680" y="884160"/>
            <a:ext cx="5070600" cy="59086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-74520" y="2246400"/>
            <a:ext cx="425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der equity in the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6152760" y="3300480"/>
            <a:ext cx="27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fertility tra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3859920" y="4702320"/>
            <a:ext cx="5361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far below the “replacement level” in many rich countr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decline is a direct product of greater opportunities for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marriages and reduction of births for the well-educated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529920" y="5734080"/>
            <a:ext cx="8093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time to address these challenges is now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236520" y="2482920"/>
            <a:ext cx="8546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young family income (? 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childcare help/recommend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idized day care for children (Sweden, Franc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 postdoctoral fellow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-family-leave grant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ional contacts during family leave (Dept Biol 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 start dates for PhD and gr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s for remote panel/meeting 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69120" y="1217520"/>
            <a:ext cx="91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y other creative suggestion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Obrázek 3" descr=""/>
          <p:cNvPicPr/>
          <p:nvPr/>
        </p:nvPicPr>
        <p:blipFill>
          <a:blip r:embed="rId1"/>
          <a:stretch/>
        </p:blipFill>
        <p:spPr>
          <a:xfrm>
            <a:off x="447840" y="6105600"/>
            <a:ext cx="69498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324000" y="1058760"/>
            <a:ext cx="863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U is No. 3 in CR after Academy of Sciences and Charles University in term of research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cellent infrastru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bout 900 original research papers with IF each year, most of them with major contribution of PhDs and postdoctoral scienti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apidly growing number of citations per article – increasing qu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creasing collaboration with researchers abroa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10" descr="fch 9"/>
          <p:cNvPicPr/>
          <p:nvPr/>
        </p:nvPicPr>
        <p:blipFill>
          <a:blip r:embed="rId6"/>
          <a:stretch/>
        </p:blipFill>
        <p:spPr>
          <a:xfrm>
            <a:off x="4676760" y="4014720"/>
            <a:ext cx="3336840" cy="2219400"/>
          </a:xfrm>
          <a:prstGeom prst="rect">
            <a:avLst/>
          </a:prstGeom>
          <a:ln w="9360">
            <a:solidFill>
              <a:srgbClr val="333399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79" name="Obrázek 3" descr=""/>
          <p:cNvPicPr/>
          <p:nvPr/>
        </p:nvPicPr>
        <p:blipFill>
          <a:blip r:embed="rId7"/>
          <a:stretch/>
        </p:blipFill>
        <p:spPr>
          <a:xfrm>
            <a:off x="990720" y="4008600"/>
            <a:ext cx="3290760" cy="2219040"/>
          </a:xfrm>
          <a:prstGeom prst="rect">
            <a:avLst/>
          </a:prstGeom>
          <a:ln w="9360">
            <a:solidFill>
              <a:srgbClr val="333399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80" name="Rectangle 7"/>
          <p:cNvSpPr/>
          <p:nvPr/>
        </p:nvSpPr>
        <p:spPr>
          <a:xfrm>
            <a:off x="68400" y="3355920"/>
            <a:ext cx="90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 world average in many fields, some teams excell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Untitled.tiff"/>
          <p:cNvPicPr/>
          <p:nvPr/>
        </p:nvPicPr>
        <p:blipFill>
          <a:blip r:embed="rId1"/>
          <a:stretch/>
        </p:blipFill>
        <p:spPr>
          <a:xfrm>
            <a:off x="1440" y="1158840"/>
            <a:ext cx="5432400" cy="49467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"/>
          <p:cNvSpPr/>
          <p:nvPr/>
        </p:nvSpPr>
        <p:spPr>
          <a:xfrm>
            <a:off x="4640400" y="1628640"/>
            <a:ext cx="334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What PIs exp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Tal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Hard work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4641840" y="3303720"/>
            <a:ext cx="437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ng hours working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sala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cessive demands and great press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mited perspective to get permanent jo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leisure activ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fficult personal lif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048120" y="5249880"/>
            <a:ext cx="60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 of doing science, great discove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d stellar carrier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7" descr="1.tiff"/>
          <p:cNvPicPr/>
          <p:nvPr/>
        </p:nvPicPr>
        <p:blipFill>
          <a:blip r:embed="rId2"/>
          <a:stretch/>
        </p:blipFill>
        <p:spPr>
          <a:xfrm>
            <a:off x="6545160" y="2176560"/>
            <a:ext cx="2568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Marie Curie.tiff"/>
          <p:cNvPicPr/>
          <p:nvPr/>
        </p:nvPicPr>
        <p:blipFill>
          <a:blip r:embed="rId1"/>
          <a:stretch/>
        </p:blipFill>
        <p:spPr>
          <a:xfrm>
            <a:off x="2155680" y="884160"/>
            <a:ext cx="5070600" cy="59086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"/>
          <p:cNvSpPr/>
          <p:nvPr/>
        </p:nvSpPr>
        <p:spPr>
          <a:xfrm>
            <a:off x="-74520" y="2246400"/>
            <a:ext cx="425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der equity in the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6152760" y="3300480"/>
            <a:ext cx="27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fertility tra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3859920" y="4702320"/>
            <a:ext cx="5361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far below the “replacement level” in many rich countr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decline is a direct product of greater opportunities for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marriages and reduction of births for the well-educated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Map 1.tiff"/>
          <p:cNvPicPr/>
          <p:nvPr/>
        </p:nvPicPr>
        <p:blipFill>
          <a:blip r:embed="rId1"/>
          <a:stretch/>
        </p:blipFill>
        <p:spPr>
          <a:xfrm>
            <a:off x="600120" y="1311120"/>
            <a:ext cx="7786800" cy="49388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600120" y="4494240"/>
            <a:ext cx="2079720" cy="16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689120" y="1311120"/>
            <a:ext cx="1471680" cy="1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4448160" y="5889600"/>
            <a:ext cx="8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 : M rati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649440" y="1486080"/>
            <a:ext cx="19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ender and research outpu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00240" y="2722680"/>
            <a:ext cx="64260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Greatest gender parity is often in former communist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Low research output ~ female domi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omen dominate science in Macedonia, Sri Lanka, Latvia, Ukraine and Bosnia/Herzegovi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omen are globally less likely to participate in collaboration and be listed as either first or last auth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" descr="Map 2.tiff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2182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4570920" y="5826240"/>
            <a:ext cx="772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 : M rati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2282760" y="1200240"/>
          <a:ext cx="2665440" cy="2422440"/>
        </p:xfrm>
        <a:graphic>
          <a:graphicData uri="http://schemas.openxmlformats.org/drawingml/2006/table">
            <a:tbl>
              <a:tblPr/>
              <a:tblGrid>
                <a:gridCol w="865080"/>
                <a:gridCol w="576360"/>
                <a:gridCol w="557280"/>
                <a:gridCol w="666720"/>
              </a:tblGrid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ul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i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orma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rts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199" name="Graf 6" descr=""/>
          <p:cNvPicPr/>
          <p:nvPr/>
        </p:nvPicPr>
        <p:blipFill>
          <a:blip r:embed="rId1"/>
          <a:stretch/>
        </p:blipFill>
        <p:spPr>
          <a:xfrm>
            <a:off x="5041800" y="1225440"/>
            <a:ext cx="370548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2290680" y="3994200"/>
          <a:ext cx="2735280" cy="2422440"/>
        </p:xfrm>
        <a:graphic>
          <a:graphicData uri="http://schemas.openxmlformats.org/drawingml/2006/table">
            <a:tbl>
              <a:tblPr/>
              <a:tblGrid>
                <a:gridCol w="863640"/>
                <a:gridCol w="576360"/>
                <a:gridCol w="611280"/>
                <a:gridCol w="684000"/>
              </a:tblGrid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ul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80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388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i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orma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rts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201" name="Graf 8" descr=""/>
          <p:cNvPicPr/>
          <p:nvPr/>
        </p:nvPicPr>
        <p:blipFill>
          <a:blip r:embed="rId2"/>
          <a:stretch/>
        </p:blipFill>
        <p:spPr>
          <a:xfrm>
            <a:off x="5145120" y="3968640"/>
            <a:ext cx="3700440" cy="21765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252360" y="1568520"/>
            <a:ext cx="948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873000" y="3068640"/>
          <a:ext cx="3384720" cy="1655640"/>
        </p:xfrm>
        <a:graphic>
          <a:graphicData uri="http://schemas.openxmlformats.org/drawingml/2006/table">
            <a:tbl>
              <a:tblPr/>
              <a:tblGrid>
                <a:gridCol w="1347840"/>
                <a:gridCol w="679680"/>
                <a:gridCol w="677880"/>
                <a:gridCol w="679320"/>
              </a:tblGrid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ademic 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tdo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3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oc. profes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0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es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3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204" name="Graf 4" descr=""/>
          <p:cNvPicPr/>
          <p:nvPr/>
        </p:nvPicPr>
        <p:blipFill>
          <a:blip r:embed="rId1"/>
          <a:stretch/>
        </p:blipFill>
        <p:spPr>
          <a:xfrm>
            <a:off x="4791240" y="2908440"/>
            <a:ext cx="3450960" cy="2097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1331280" y="1255680"/>
            <a:ext cx="56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ucture of MU research staf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Isosceles Triangle 5"/>
          <p:cNvSpPr/>
          <p:nvPr/>
        </p:nvSpPr>
        <p:spPr>
          <a:xfrm flipH="1">
            <a:off x="-720" y="2017800"/>
            <a:ext cx="5140440" cy="3473280"/>
          </a:xfrm>
          <a:prstGeom prst="triangle">
            <a:avLst>
              <a:gd name="adj" fmla="val 50000"/>
            </a:avLst>
          </a:prstGeom>
          <a:solidFill>
            <a:srgbClr val="ffec9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684720" y="1549440"/>
            <a:ext cx="52693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lancing work and lif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rather 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rather unhap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un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004.JPG"/>
          <p:cNvPicPr/>
          <p:nvPr/>
        </p:nvPicPr>
        <p:blipFill>
          <a:blip r:embed="rId1"/>
          <a:stretch/>
        </p:blipFill>
        <p:spPr>
          <a:xfrm>
            <a:off x="5622840" y="4500720"/>
            <a:ext cx="3429000" cy="22888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7056360" y="3059280"/>
            <a:ext cx="30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05:21:30Z</dcterms:created>
  <dc:creator>Pavel Jílek</dc:creator>
  <dc:description/>
  <dc:language>en-US</dc:language>
  <cp:lastModifiedBy>Eliska Pudova</cp:lastModifiedBy>
  <dcterms:modified xsi:type="dcterms:W3CDTF">2014-12-01T19:54:52Z</dcterms:modified>
  <cp:revision>36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axCatchAll">
    <vt:lpwstr/>
  </property>
  <property fmtid="{D5CDD505-2E9C-101B-9397-08002B2CF9AE}" pid="3" name="TaxKeyword">
    <vt:lpwstr/>
  </property>
  <property fmtid="{D5CDD505-2E9C-101B-9397-08002B2CF9AE}" pid="4" name="TaxKeywordTaxHTField">
    <vt:lpwstr/>
  </property>
</Properties>
</file>